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A0B-B6F9-4BDB-B1D5-0D7F9F9089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D176-EBAD-426A-82B2-17C96ADD80B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065-8A85-4295-948C-0F7CF6CF97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455-56E9-4AF7-85A8-7027F0761B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AA12-B60D-4FA6-BD31-6B8CC9806C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C50-A16B-4383-BC27-C9B18455A2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5F4-6A23-428E-8DA9-C8EC506BDE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5F91-2281-44DA-8E32-FA38AEA9F9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3C02-015A-4438-A17B-13F623C62F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268-E927-4B1E-87D9-89F2C5AF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0CA-9052-4577-8660-E458F356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BBA-6B28-460B-870A-F99B1507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774-E9E9-4B7D-9ABB-11987156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143-A6D6-47C6-9A63-8DE86B7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B2D-E9C7-43A7-87EB-8CB7C583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EF9-EE2F-4462-AD48-8A1C1E50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8C3-6A59-4D77-B88E-BB1C58E0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580-84E7-498F-8EE9-5835244D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C98-4B90-4309-AA7D-68D30CF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35A-9C25-423C-91ED-E85A49F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2AF-CA4E-43D1-A2BA-8FD2760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9EB-76B4-46BA-9B72-99C1D98E487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H0512272\Pictures\CLARO4.png"/>
          <p:cNvPicPr/>
          <p:nvPr/>
        </p:nvPicPr>
        <p:blipFill>
          <a:blip r:embed="rId2"/>
          <a:stretch/>
        </p:blipFill>
        <p:spPr>
          <a:xfrm>
            <a:off x="7164360" y="6099120"/>
            <a:ext cx="1987560" cy="78588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108000" y="115920"/>
            <a:ext cx="89280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Conector recto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9 Conector recto"/>
          <p:cNvSpPr/>
          <p:nvPr/>
        </p:nvSpPr>
        <p:spPr>
          <a:xfrm>
            <a:off x="9036000" y="115920"/>
            <a:ext cx="0" cy="65530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Conector recto"/>
          <p:cNvSpPr/>
          <p:nvPr/>
        </p:nvSpPr>
        <p:spPr>
          <a:xfrm>
            <a:off x="108000" y="6742080"/>
            <a:ext cx="7343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ortar rectángulo de esquina sencilla"/>
          <p:cNvGrpSpPr/>
          <p:nvPr/>
        </p:nvGrpSpPr>
        <p:grpSpPr>
          <a:xfrm>
            <a:off x="55440" y="6424560"/>
            <a:ext cx="1981440" cy="397080"/>
            <a:chOff x="55440" y="6424560"/>
            <a:chExt cx="1981440" cy="397080"/>
          </a:xfrm>
        </p:grpSpPr>
        <p:pic>
          <p:nvPicPr>
            <p:cNvPr id="47" name="11 Recortar rectángulo de esquina sencilla" descr=""/>
            <p:cNvPicPr/>
            <p:nvPr/>
          </p:nvPicPr>
          <p:blipFill>
            <a:blip r:embed="rId3"/>
            <a:stretch/>
          </p:blipFill>
          <p:spPr>
            <a:xfrm>
              <a:off x="55440" y="6424560"/>
              <a:ext cx="198144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8000" y="6524640"/>
              <a:ext cx="1800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12 Conector recto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1 Rectángulo"/>
          <p:cNvSpPr/>
          <p:nvPr/>
        </p:nvSpPr>
        <p:spPr>
          <a:xfrm>
            <a:off x="755640" y="184464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1945440" y="18900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9 Rectángulo redondeado"/>
          <p:cNvGrpSpPr/>
          <p:nvPr/>
        </p:nvGrpSpPr>
        <p:grpSpPr>
          <a:xfrm>
            <a:off x="341280" y="665280"/>
            <a:ext cx="8534520" cy="803160"/>
            <a:chOff x="341280" y="665280"/>
            <a:chExt cx="8534520" cy="803160"/>
          </a:xfrm>
        </p:grpSpPr>
        <p:pic>
          <p:nvPicPr>
            <p:cNvPr id="98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1280" y="665280"/>
              <a:ext cx="8534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6960" y="723960"/>
              <a:ext cx="8361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Principales Neces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2 Diagrama" descr=""/>
          <p:cNvPicPr/>
          <p:nvPr/>
        </p:nvPicPr>
        <p:blipFill>
          <a:blip r:embed="rId2"/>
          <a:stretch/>
        </p:blipFill>
        <p:spPr>
          <a:xfrm>
            <a:off x="384120" y="1609560"/>
            <a:ext cx="85946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CuadroTexto"/>
          <p:cNvSpPr/>
          <p:nvPr/>
        </p:nvSpPr>
        <p:spPr>
          <a:xfrm>
            <a:off x="2609640" y="189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19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2 Rectángulo redondeado"/>
          <p:cNvGrpSpPr/>
          <p:nvPr/>
        </p:nvGrpSpPr>
        <p:grpSpPr>
          <a:xfrm>
            <a:off x="341280" y="665280"/>
            <a:ext cx="8534520" cy="803160"/>
            <a:chOff x="341280" y="665280"/>
            <a:chExt cx="8534520" cy="803160"/>
          </a:xfrm>
        </p:grpSpPr>
        <p:pic>
          <p:nvPicPr>
            <p:cNvPr id="103" name="12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1280" y="665280"/>
              <a:ext cx="8534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26960" y="723960"/>
              <a:ext cx="8361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Modificación de Topes de Espec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45960" y="1484280"/>
            <a:ext cx="83296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1 Rectángulo"/>
          <p:cNvGrpSpPr/>
          <p:nvPr/>
        </p:nvGrpSpPr>
        <p:grpSpPr>
          <a:xfrm>
            <a:off x="73080" y="5200560"/>
            <a:ext cx="9070920" cy="1333440"/>
            <a:chOff x="73080" y="5200560"/>
            <a:chExt cx="9070920" cy="1333440"/>
          </a:xfrm>
        </p:grpSpPr>
        <p:pic>
          <p:nvPicPr>
            <p:cNvPr id="107" name="1 Rectángulo" descr=""/>
            <p:cNvPicPr/>
            <p:nvPr/>
          </p:nvPicPr>
          <p:blipFill>
            <a:blip r:embed="rId3"/>
            <a:stretch/>
          </p:blipFill>
          <p:spPr>
            <a:xfrm>
              <a:off x="73080" y="5200560"/>
              <a:ext cx="90709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79280" y="5229360"/>
              <a:ext cx="8856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ODIFICAR LOS TOPES MAXIMOS DE ESPECTRO, con el propósito de garantizar el derecho a la igualdad y a la libre concurrencia de todos los operadores. Así las cosas, podrían entrar a subastar espectro en  un único segmento de 2 x 10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CuadroTexto"/>
          <p:cNvSpPr/>
          <p:nvPr/>
        </p:nvSpPr>
        <p:spPr>
          <a:xfrm>
            <a:off x="2609640" y="189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19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12 Rectángulo redondeado"/>
          <p:cNvGrpSpPr/>
          <p:nvPr/>
        </p:nvGrpSpPr>
        <p:grpSpPr>
          <a:xfrm>
            <a:off x="341280" y="665280"/>
            <a:ext cx="8534520" cy="803160"/>
            <a:chOff x="341280" y="665280"/>
            <a:chExt cx="8534520" cy="803160"/>
          </a:xfrm>
        </p:grpSpPr>
        <p:pic>
          <p:nvPicPr>
            <p:cNvPr id="111" name="12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1280" y="665280"/>
              <a:ext cx="8534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960" y="723960"/>
              <a:ext cx="8361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Reorganización de la banda 1900 M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2 Diagrama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0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CuadroTexto"/>
          <p:cNvSpPr/>
          <p:nvPr/>
        </p:nvSpPr>
        <p:spPr>
          <a:xfrm>
            <a:off x="2645640" y="189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9 Rectángulo redondeado"/>
          <p:cNvGrpSpPr/>
          <p:nvPr/>
        </p:nvGrpSpPr>
        <p:grpSpPr>
          <a:xfrm>
            <a:off x="414360" y="579600"/>
            <a:ext cx="8400960" cy="914400"/>
            <a:chOff x="414360" y="579600"/>
            <a:chExt cx="8400960" cy="914400"/>
          </a:xfrm>
        </p:grpSpPr>
        <p:pic>
          <p:nvPicPr>
            <p:cNvPr id="116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14360" y="579600"/>
              <a:ext cx="8400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06520" y="649440"/>
              <a:ext cx="8211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LOQUES A SUBASTA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10 Rectángulo redondeado"/>
          <p:cNvGrpSpPr/>
          <p:nvPr/>
        </p:nvGrpSpPr>
        <p:grpSpPr>
          <a:xfrm>
            <a:off x="274680" y="1596960"/>
            <a:ext cx="2840040" cy="4791240"/>
            <a:chOff x="274680" y="1596960"/>
            <a:chExt cx="2840040" cy="4791240"/>
          </a:xfrm>
        </p:grpSpPr>
        <p:pic>
          <p:nvPicPr>
            <p:cNvPr id="119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74680" y="1596960"/>
              <a:ext cx="284004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61880" y="1762200"/>
              <a:ext cx="2463840" cy="44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n el ARTICULO 2, se plantea que esta banda se subastará </a:t>
              </a:r>
              <a:r>
                <a:rPr b="1" lang="es-E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en un solo segmento de 2 x 10 MH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Igualmente, limita  la compra máxima, en función de los topes de espectro vigente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12 Rectángulo redondeado"/>
          <p:cNvSpPr/>
          <p:nvPr/>
        </p:nvSpPr>
        <p:spPr>
          <a:xfrm>
            <a:off x="3564000" y="1628640"/>
            <a:ext cx="5194080" cy="46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 la  propuesta se excluye de la subasta a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COMCEL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y a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TELEFONICA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medida de los topes afecta de manera directa, la concurrencia de estos operadores a la sub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 afectan derechos fundamentales, como el de igualdad y otros derechos constitucionales, como el de la libre competencia en la sub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odrían subastar c/u hasta 5 MHz de espectro en esta banda, para llegar al tope máximo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CuadroTexto"/>
          <p:cNvSpPr/>
          <p:nvPr/>
        </p:nvSpPr>
        <p:spPr>
          <a:xfrm>
            <a:off x="1923840" y="18900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9 Rectángulo redondeado"/>
          <p:cNvGrpSpPr/>
          <p:nvPr/>
        </p:nvGrpSpPr>
        <p:grpSpPr>
          <a:xfrm>
            <a:off x="414360" y="1023840"/>
            <a:ext cx="8400960" cy="1054080"/>
            <a:chOff x="414360" y="1023840"/>
            <a:chExt cx="8400960" cy="1054080"/>
          </a:xfrm>
        </p:grpSpPr>
        <p:pic>
          <p:nvPicPr>
            <p:cNvPr id="124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14360" y="1023840"/>
              <a:ext cx="8400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4440" y="1098720"/>
              <a:ext cx="81979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ENTAJA COMPETITIVA DE CIERTOS PROVEED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8 Rectángulo redondeado"/>
          <p:cNvSpPr/>
          <p:nvPr/>
        </p:nvSpPr>
        <p:spPr>
          <a:xfrm>
            <a:off x="468360" y="2205000"/>
            <a:ext cx="828972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Se evidencia que con el esquema de subasta planteado, algunos proveedores que no cuentan con espectro asignado en bandas bajas, podrían acceder a un segmento de mayor tamaño, no obstante ser los operadores que cuentan con mayor cantidad de espectro asignado en bandas altas y menor número de usuar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CuadroTexto"/>
          <p:cNvSpPr/>
          <p:nvPr/>
        </p:nvSpPr>
        <p:spPr>
          <a:xfrm>
            <a:off x="1923840" y="18900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9 Rectángulo redondeado"/>
          <p:cNvGrpSpPr/>
          <p:nvPr/>
        </p:nvGrpSpPr>
        <p:grpSpPr>
          <a:xfrm>
            <a:off x="414360" y="560520"/>
            <a:ext cx="8400960" cy="639720"/>
            <a:chOff x="414360" y="560520"/>
            <a:chExt cx="8400960" cy="639720"/>
          </a:xfrm>
        </p:grpSpPr>
        <p:pic>
          <p:nvPicPr>
            <p:cNvPr id="129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14360" y="560520"/>
              <a:ext cx="8400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7440" y="630360"/>
              <a:ext cx="82519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ENTAJA COMPETITIVA DE CIERTOS PROVEED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91960" y="2655720"/>
          <a:ext cx="8601120" cy="3076920"/>
        </p:xfrm>
        <a:graphic>
          <a:graphicData uri="http://schemas.openxmlformats.org/drawingml/2006/table">
            <a:tbl>
              <a:tblPr/>
              <a:tblGrid>
                <a:gridCol w="1241640"/>
                <a:gridCol w="1243080"/>
                <a:gridCol w="1446120"/>
                <a:gridCol w="1444680"/>
                <a:gridCol w="1612800"/>
                <a:gridCol w="1612800"/>
              </a:tblGrid>
              <a:tr h="4446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GO /UNE/E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+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4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o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2" name="3 Rectángulo"/>
          <p:cNvSpPr/>
          <p:nvPr/>
        </p:nvSpPr>
        <p:spPr>
          <a:xfrm>
            <a:off x="276120" y="5846760"/>
            <a:ext cx="84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(*) Potencial de espectro a adquirir, dependiendo del resultado de la subasta bajo las actuales condiciones publicadas en el borrador de Reso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4 Rectángulo redondeado"/>
          <p:cNvGrpSpPr/>
          <p:nvPr/>
        </p:nvGrpSpPr>
        <p:grpSpPr>
          <a:xfrm>
            <a:off x="237960" y="1163520"/>
            <a:ext cx="8577360" cy="1408320"/>
            <a:chOff x="237960" y="1163520"/>
            <a:chExt cx="8577360" cy="1408320"/>
          </a:xfrm>
        </p:grpSpPr>
        <p:pic>
          <p:nvPicPr>
            <p:cNvPr id="134" name="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37960" y="1163520"/>
              <a:ext cx="85773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55680" y="1260360"/>
              <a:ext cx="8339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8 Rectángulo redondeado"/>
          <p:cNvSpPr/>
          <p:nvPr/>
        </p:nvSpPr>
        <p:spPr>
          <a:xfrm>
            <a:off x="200160" y="1193760"/>
            <a:ext cx="87436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 evidencia el potencial desbalance en que podría generarse bajo el esquema propuesto, derivado de la concentración de espectro que actualmente tienen TIGO – UNE y ETB, sumando a la posibilidad que tienen de acceder a la totalidad de los 20 MHz de la banda de 900 M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9 Rectángulo redondeado"/>
          <p:cNvGrpSpPr/>
          <p:nvPr/>
        </p:nvGrpSpPr>
        <p:grpSpPr>
          <a:xfrm>
            <a:off x="444600" y="944640"/>
            <a:ext cx="8400960" cy="639720"/>
            <a:chOff x="444600" y="944640"/>
            <a:chExt cx="8400960" cy="639720"/>
          </a:xfrm>
        </p:grpSpPr>
        <p:pic>
          <p:nvPicPr>
            <p:cNvPr id="138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44600" y="944640"/>
              <a:ext cx="8400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9120" y="1015920"/>
              <a:ext cx="8251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BLIGACIONES DE H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4 Rectángulo redondeado"/>
          <p:cNvGrpSpPr/>
          <p:nvPr/>
        </p:nvGrpSpPr>
        <p:grpSpPr>
          <a:xfrm>
            <a:off x="237960" y="1163520"/>
            <a:ext cx="8577360" cy="1408320"/>
            <a:chOff x="237960" y="1163520"/>
            <a:chExt cx="8577360" cy="1408320"/>
          </a:xfrm>
        </p:grpSpPr>
        <p:pic>
          <p:nvPicPr>
            <p:cNvPr id="141" name="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37960" y="1163520"/>
              <a:ext cx="85773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5680" y="1260360"/>
              <a:ext cx="8339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7 Rectángulo"/>
          <p:cNvSpPr/>
          <p:nvPr/>
        </p:nvSpPr>
        <p:spPr>
          <a:xfrm>
            <a:off x="2111040" y="18900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s://encrypted-tbn2.gstatic.com/images?q=tbn:ANd9GcTTysqwGIx8J4hCJZWvz5Zp4xXguq-WsCbqjt6KzO02WJeatVbhvw"/>
          <p:cNvPicPr/>
          <p:nvPr/>
        </p:nvPicPr>
        <p:blipFill>
          <a:blip r:embed="rId3"/>
          <a:stretch/>
        </p:blipFill>
        <p:spPr>
          <a:xfrm>
            <a:off x="352440" y="4446720"/>
            <a:ext cx="1555560" cy="1555560"/>
          </a:xfrm>
          <a:prstGeom prst="rect">
            <a:avLst/>
          </a:prstGeom>
          <a:ln w="0">
            <a:noFill/>
          </a:ln>
        </p:spPr>
      </p:pic>
      <p:sp>
        <p:nvSpPr>
          <p:cNvPr id="145" name="13 Rectángulo redondeado"/>
          <p:cNvSpPr/>
          <p:nvPr/>
        </p:nvSpPr>
        <p:spPr>
          <a:xfrm>
            <a:off x="426960" y="1628640"/>
            <a:ext cx="829008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Deben estar relacionadas directamente con la prestación del servicio y evitar establecer obligaciones que deben estar soportadas en la regulación de carácter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4 Rectángulo redondeado"/>
          <p:cNvSpPr/>
          <p:nvPr/>
        </p:nvSpPr>
        <p:spPr>
          <a:xfrm>
            <a:off x="2266920" y="2852640"/>
            <a:ext cx="669780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e igual manera en las recomendaciones de la OECD, no sólo se sugiere a Colombia, evitar “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procedimientos arbitrari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”, para la asignación de espectro, sino que adicionalmente recomendó expresamente tanto al Ministerio, como a la ANE que: 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“(…) Han de reducirse al mínimo las condiciones vinculadas a su asignación, como las obligaciones de cobertura excesivas o requisitos de proporcionar tabletas, para evitar distorsiones en el diseño de la subasta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 (…)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9 Rectángulo redondeado"/>
          <p:cNvGrpSpPr/>
          <p:nvPr/>
        </p:nvGrpSpPr>
        <p:grpSpPr>
          <a:xfrm>
            <a:off x="444600" y="944640"/>
            <a:ext cx="8400960" cy="639720"/>
            <a:chOff x="444600" y="944640"/>
            <a:chExt cx="8400960" cy="639720"/>
          </a:xfrm>
        </p:grpSpPr>
        <p:pic>
          <p:nvPicPr>
            <p:cNvPr id="148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44600" y="944640"/>
              <a:ext cx="8400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9120" y="1015920"/>
              <a:ext cx="8251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Roaming Automático 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4 Rectángulo redondeado"/>
          <p:cNvGrpSpPr/>
          <p:nvPr/>
        </p:nvGrpSpPr>
        <p:grpSpPr>
          <a:xfrm>
            <a:off x="237960" y="1163520"/>
            <a:ext cx="8577360" cy="1408320"/>
            <a:chOff x="237960" y="1163520"/>
            <a:chExt cx="8577360" cy="1408320"/>
          </a:xfrm>
        </p:grpSpPr>
        <p:pic>
          <p:nvPicPr>
            <p:cNvPr id="151" name="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37960" y="1163520"/>
              <a:ext cx="85773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55680" y="1260360"/>
              <a:ext cx="8339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7 Rectángulo"/>
          <p:cNvSpPr/>
          <p:nvPr/>
        </p:nvSpPr>
        <p:spPr>
          <a:xfrm>
            <a:off x="2111040" y="18900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3 Rectángulo redondeado"/>
          <p:cNvSpPr/>
          <p:nvPr/>
        </p:nvSpPr>
        <p:spPr>
          <a:xfrm>
            <a:off x="395280" y="1590840"/>
            <a:ext cx="3968640" cy="4646520"/>
          </a:xfrm>
          <a:custGeom>
            <a:avLst/>
            <a:gdLst>
              <a:gd name="textAreaLeft" fmla="*/ 193680 w 3968640"/>
              <a:gd name="textAreaRight" fmla="*/ 3774960 w 3968640"/>
              <a:gd name="textAreaTop" fmla="*/ 193680 h 4646520"/>
              <a:gd name="textAreaBottom" fmla="*/ 4452840 h 4646520"/>
            </a:gdLst>
            <a:ahLst/>
            <a:rect l="textAreaLeft" t="textAreaTop" r="textAreaRight" b="textAreaBottom"/>
            <a:pathLst>
              <a:path w="21600" h="25289">
                <a:moveTo>
                  <a:pt x="3600" y="0"/>
                </a:moveTo>
                <a:arcTo wR="3600" hR="3600" stAng="16200000" swAng="-5400000"/>
                <a:lnTo>
                  <a:pt x="0" y="21689"/>
                </a:lnTo>
                <a:arcTo wR="3600" hR="3600" stAng="10800000" swAng="-5400000"/>
                <a:lnTo>
                  <a:pt x="18000" y="252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lta de coherencia entre las restricciones de acceso al recurso a ciertos operadores y obligaciones de compartición activa como RAN, por cuanto no existe recurso suficiente que permita soportar  la carga adicional derivada de este tipo de fac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4 Rectángulo redondeado"/>
          <p:cNvSpPr/>
          <p:nvPr/>
        </p:nvSpPr>
        <p:spPr>
          <a:xfrm>
            <a:off x="4702320" y="1628640"/>
            <a:ext cx="4233600" cy="4824720"/>
          </a:xfrm>
          <a:custGeom>
            <a:avLst/>
            <a:gdLst>
              <a:gd name="textAreaLeft" fmla="*/ 206640 w 4233600"/>
              <a:gd name="textAreaRight" fmla="*/ 4026960 w 4233600"/>
              <a:gd name="textAreaTop" fmla="*/ 206640 h 4824720"/>
              <a:gd name="textAreaBottom" fmla="*/ 4618080 h 4824720"/>
            </a:gdLst>
            <a:ahLst/>
            <a:rect l="textAreaLeft" t="textAreaTop" r="textAreaRight" b="textAreaBottom"/>
            <a:pathLst>
              <a:path w="21600" h="24616">
                <a:moveTo>
                  <a:pt x="3600" y="0"/>
                </a:moveTo>
                <a:arcTo wR="3600" hR="3600" stAng="16200000" swAng="-5400000"/>
                <a:lnTo>
                  <a:pt x="0" y="21016"/>
                </a:lnTo>
                <a:arcTo wR="3600" hR="3600" stAng="10800000" swAng="-5400000"/>
                <a:lnTo>
                  <a:pt x="18000" y="246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ada usuario que se conecta a la red aumenta la interferencia generando un impacto directo sobre las condiciones de carga y disponibilidad de recursos, lo cual no resulta favorable si se tiene en cuenta la disponibilidad de espec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9:59:55Z</dcterms:created>
  <dc:creator>Jaime Alexander Rosiascos Jimenez</dc:creator>
  <dc:description/>
  <dc:language>en-US</dc:language>
  <cp:lastModifiedBy>Santiago Pardo Fajardo</cp:lastModifiedBy>
  <dcterms:modified xsi:type="dcterms:W3CDTF">2014-11-27T13:38:37Z</dcterms:modified>
  <cp:revision>196</cp:revision>
  <dc:subject/>
  <dc:title>Presentación de PowerPoint</dc:title>
</cp:coreProperties>
</file>